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CDF5-B73D-4890-A1F4-9552131A2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838C-52CA-4A45-918A-E5603C80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8593-FF4A-4D5E-BCAA-30C5C66F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BEC5-C021-4895-96DD-093C119F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9ABA-F157-453B-B20E-282A6AD3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41C8-E87B-4B5D-B9C2-F691EC22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654D-8A76-4B88-904F-ADA12B42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D985-C9A6-4325-B393-BDFBD733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9893-E254-4212-B52C-A51E4F71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F6FE-E1CA-4A67-9040-64EB20AC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0E9A-61B1-47AF-8019-E6E7E0E1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4F33-9BFC-463B-B8B3-2F3C27DB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E68A-5728-4DBF-A320-63119D49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262A-41C1-49ED-B09B-21BFA8BF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9B4E-85F4-4FB5-8EE5-57559850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0BED-EEB7-49AD-94E6-0B52BDF9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CE43-0F17-4F69-90D7-296BFDB2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6096-3ECB-4656-AE52-E54D683A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C9C5-8B06-4162-B4BB-ED76F69E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D733-8609-491B-9163-BD0C0651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AD3A-A349-4F09-8944-FF3A86B4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0554-3CE5-4910-8DB4-D88DA8D8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BE96-9545-4F43-96F7-824649F7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8B75-5FDD-4895-8145-124FE94A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D0A2-C3C6-4A69-81EB-3D49698DBC1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20B6-6FFA-4779-9FFA-C6DCFC962E6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adoption.com/adclick.php?bannerid=6545&amp;zoneid=530&amp;source=&amp;dest=http%3A%2F%2Fwww.adopthelp.co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doption in Canada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Overvie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at is adop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ermanent legal transfer of parenting rights and responsibilities from one family to another.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word adoption, however, has different meanings to the people touched by it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an adoptee, the word implies that a choice was made with the forming of his/her family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an adoptive parent, it describes a parental relationship that was made legally, not biologicall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a birth parent, it recognizes the loss associated with giving up parental rights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Are Children Adopte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Children in the public child welfare system who are placed in permanent homes by public, government-operated agencies or by contracted private agencies. 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rivate agenc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Children are placed in non-relative homes through the services of a licensed (non-profit or for-profit) agency. 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Independ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Children are placed in relatives and non-relative homes directly by the birth parents or through the services of either a medical doctor, a member of the clergy, an attorney, or a licensed or unlicensed facilita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Kinship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Children are placed in relatives' homes, with or without the services of a public agency. 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teppar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 Children are adopted by the spouse of one birth pare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y are children being adopted?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ildren are being adopted because their birth parents were unable to care for the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option may be the result of the direct wishes of the birth parents (Want a better life than they can provide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also may be the result of abuse or neglect, poverty and abandonment, or the death of the birth pare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couples cannot have biological children due to infertilit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ernational Adoption in Canada (2005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http://www.sunriseadoption.com/articles/2006_adoption_statistic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 "/>
          <p:cNvPicPr/>
          <p:nvPr/>
        </p:nvPicPr>
        <p:blipFill>
          <a:blip r:embed="rId1"/>
          <a:stretch/>
        </p:blipFill>
        <p:spPr>
          <a:xfrm>
            <a:off x="1116000" y="2222640"/>
            <a:ext cx="295128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plaining Adoption to Your Childre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4000" y="1844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ome prefer to wait until children are older believing their understanding will be more complete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thers believe that a child should never remember a time when they didn't know about their adoption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t is important to remember that a child should not be told once about their adoption, but talked with throughout each of the stages of childhood development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key is to provide a comfortable, accepting atmosphere in which a child can communicate the questions they are thinking about and get the answers they are searchin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dopthelp_square01" descr="Click Here for More Inform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565360"/>
            <a:ext cx="32403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www.adoption.ca/glossary.ht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www.sunriseadoption.com/articles/2006_adoption_statis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ttp://library.adoption.com/articles/explaining-adoption-to-your-children-family-and-friends,4.htm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01:09:29Z</dcterms:created>
  <dc:creator>dino</dc:creator>
  <dc:description/>
  <dc:language>en-US</dc:language>
  <cp:lastModifiedBy>dino</cp:lastModifiedBy>
  <dcterms:modified xsi:type="dcterms:W3CDTF">2011-01-17T01:40:02Z</dcterms:modified>
  <cp:revision>4</cp:revision>
  <dc:subject/>
  <dc:title>Adoption in Canada</dc:title>
</cp:coreProperties>
</file>